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074-3606-4ACA-9547-3D4D97D7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A7E-C264-4069-B1FD-244FDC0F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3DD-0C23-4747-856A-688F8199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33E-29BC-4948-B4A5-0203DDC5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590-AF2E-42E8-9160-C248E09A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36A-E518-4B61-85F8-92191782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DDF-04F7-4BBA-8DEB-AD352298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803-8D75-49F9-8F87-7FBF13FE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8D8-CC4C-4C1C-8770-284DA06E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2A2-B648-4E84-A89B-CD9ED72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C28-0AF3-466F-92AB-B247172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5EC-5008-4BD8-944F-82CA5743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AE47-E9B8-4E61-9E82-6784599F1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b5ee"/>
                </a:solidFill>
                <a:latin typeface="Curlz MT"/>
              </a:rPr>
              <a:t>Kit Ka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60199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By Kate Har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They come in many flav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Milk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Dark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Whit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M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And extra cre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19360" cy="4876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They Tast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396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s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col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b2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Where do you get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cery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where that sells c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f0ff"/>
            </a:gs>
            <a:gs pos="100000">
              <a:srgbClr val="29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Go Buy Lots of Kit Kats Now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18040" y="1981080"/>
            <a:ext cx="306864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81040" y="4114800"/>
            <a:ext cx="2219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5840" y="1981080"/>
            <a:ext cx="2809800" cy="198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41:23Z</dcterms:created>
  <dc:creator>Educational Technology</dc:creator>
  <dc:description/>
  <dc:language>en-US</dc:language>
  <cp:lastModifiedBy>Educational Technology</cp:lastModifiedBy>
  <dcterms:modified xsi:type="dcterms:W3CDTF">2007-11-19T19:38:47Z</dcterms:modified>
  <cp:revision>5</cp:revision>
  <dc:subject/>
  <dc:title>Kit Kats</dc:title>
</cp:coreProperties>
</file>